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E8A6-55C2-480C-8F97-D77099413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DD5F-48BA-4F10-B70C-BB4EFF8B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8802-0366-4A66-81E8-5259FBAF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F7D5-1273-4B9E-9FBD-D8256C15A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6305-8384-4271-9850-A822F2F4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9202-01DD-400E-99A4-307DCA0C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719C-8631-49E6-A789-5E2D6FB6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9074-B706-4720-830C-C0F7535A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BE99-27DB-40F6-A9AD-8CAEC6BE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AAD1-E471-47AA-B665-0D10148A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975F-8DDF-4563-8CA8-58DB1C50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F5FF-F309-4D14-9A28-C5C358E4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5A44-ED9D-4AAD-8296-E9782B866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eb.mit.edu/invent/iow/gould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480060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400800" y="4876920"/>
            <a:ext cx="2743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7/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#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57400" y="1143000"/>
            <a:ext cx="58672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50000">
                      <a:srgbClr val="e6dcac"/>
                    </a:gs>
                    <a:gs pos="100000">
                      <a:srgbClr val="e6dcac"/>
                    </a:gs>
                  </a:gsLst>
                  <a:lin ang="8100000"/>
                </a:gradFill>
                <a:latin typeface="Impact"/>
              </a:rPr>
              <a:t>LAS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50000">
                    <a:srgbClr val="e6dcac"/>
                  </a:gs>
                  <a:gs pos="100000">
                    <a:srgbClr val="e6dcac"/>
                  </a:gs>
                </a:gsLst>
                <a:lin ang="8100000"/>
              </a:gradFill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657600" cy="2468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05720" y="228600"/>
            <a:ext cx="2133360" cy="1425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G. Gould"/>
          <p:cNvPicPr/>
          <p:nvPr/>
        </p:nvPicPr>
        <p:blipFill>
          <a:blip r:embed="rId1"/>
          <a:stretch/>
        </p:blipFill>
        <p:spPr>
          <a:xfrm>
            <a:off x="1600200" y="457200"/>
            <a:ext cx="5791320" cy="189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480" y="4343400"/>
            <a:ext cx="53341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s MIT Program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Las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January 11,2011,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eb.mit.edu/invent/iow/goul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29718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use the laser to point at stu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uld invented the las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refined in 195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atent was filed in 198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point it at stu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Gor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born in New York City in 19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convinced and designed a la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working toward a ph.D. in physics at Columbia Univers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uld himself would convince and design one of the most significant inventions in the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uld was doing research in microwave spectrosco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uld was inspired with a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uld abandoned his doctorate in order to get his invention into pro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8:29:14Z</dcterms:created>
  <dc:creator>install</dc:creator>
  <dc:description/>
  <dc:language>en-US</dc:language>
  <cp:lastModifiedBy>install</cp:lastModifiedBy>
  <dcterms:modified xsi:type="dcterms:W3CDTF">2011-01-14T17:09:34Z</dcterms:modified>
  <cp:revision>7</cp:revision>
  <dc:subject/>
  <dc:title>Slide 1</dc:title>
</cp:coreProperties>
</file>